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gif" ContentType="image/gif"/>
  <Override PartName="/ppt/media/image9.gif" ContentType="image/gif"/>
  <Override PartName="/ppt/media/start.wav" ContentType="audio/x-wav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  <p:sldId id="265" r:id="rId47"/>
    <p:sldId id="266" r:id="rId48"/>
    <p:sldId id="267" r:id="rId49"/>
    <p:sldId id="268" r:id="rId50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slide" Target="slides/slide10.xml"/><Relationship Id="rId48" Type="http://schemas.openxmlformats.org/officeDocument/2006/relationships/slide" Target="slides/slide11.xml"/><Relationship Id="rId49" Type="http://schemas.openxmlformats.org/officeDocument/2006/relationships/slide" Target="slides/slide12.xml"/><Relationship Id="rId50" Type="http://schemas.openxmlformats.org/officeDocument/2006/relationships/slide" Target="slides/slide13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9279D-E7FA-4CE7-B35F-C0091D7F3E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B1EFD-8173-4C23-9EF9-1EE85CF8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5AF57B-6AEE-4470-9F17-81B3E75F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426E76-3B87-4F41-B58A-0E78F6AE3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37D1E5-A6DD-42C2-8F58-33C93EA9D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C1617F-9F9E-44E5-8822-D8E90091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4B4DFB-AF38-413E-96A8-716D52DF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23F524-58D7-47F5-B7A0-13696115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A8A9BB-A269-480D-9B16-9639B11B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C1A13C-1C29-40FF-B213-4F8FACFA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CC0CD6-83EC-4F4A-8917-F62E932418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9F621-7722-4BD6-8BD6-12C93EA0B7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AF471-8DB0-46B2-A3A1-EC717871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71FEA-0A49-4263-A854-E4F99BD6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750EF-FC51-4D05-8A5B-90FBF6DC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50AB1-0002-4910-AEBA-8A3AFB45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6291F-28B7-4D92-9031-2448E7F4F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FBB13-E5C8-4D95-BFE6-DE21DD7B1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959AF-B9D1-4C0F-8F6C-DEA645D1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588C3-B128-48B4-939D-D16854B1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67151-446D-467D-91A9-8FE38902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A6826-976C-4090-B536-28F0C7AB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FD2C9-F436-4826-95D8-CCFAE600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DD853-9A9C-4C07-9C0F-1C26486844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6DF4D-5B27-4524-B8FF-C865FB354D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CA2C3E-AA3E-462F-9491-DA5409E8D6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16155D-9DC0-4CAF-B753-EA4150FA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931429-BD4C-46D4-AA04-D3E32362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B86AE9-45D8-4682-BD7F-6C74D44B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675975-75E7-4858-B7BE-9FE4D73CB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15656B-5077-4FD3-BD07-A015B1538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8CFDBA-2500-463C-9CB2-A825D001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91D5CB-05CA-4F33-9AF1-0935BBA5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4ABD83-8D7A-4B64-86C8-BA769A77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CA7BB3-CC4D-410D-900D-FD1161423F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508161-AFA0-4EC3-8AA4-8D4AF4BB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F688B1-78D0-487D-92B4-78D4E731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320963-5507-49F4-B413-B3BCA0A1A8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C0FC8E-09B2-46E7-A370-5C02F63651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59F9F9-F591-4CEA-9D9C-6320CCAB7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2AD4EA-D327-43A9-90FB-E795B278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CD3BAC-F1F0-4718-A489-863DD12A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37F673-7B8A-4023-916A-9C93B6566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2AB834-8648-49C8-A7E9-C3B0B01A9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9D2182-98B0-4AA8-A045-A5FF4452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676EC2-FB53-4F17-962E-8CA0A56F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555A8E-D6C5-4E11-AB6E-70DA95E7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7D851D-F483-4AAE-9C2A-F4DCA99B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05FF81-DCCE-4D16-BC42-A0741D40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9358E7-82A7-430D-B7F5-1D89D9F9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2AFB4F-A105-46EB-B2DD-860BBCE02E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F2BBB-4F84-4762-AFA4-B8AAD9D993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97BB98-6D11-4AEC-A3B4-A691D186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E3DB7-947B-46C2-A3A1-EB770908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E39D08-82E8-46A4-BC78-87F4D60F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26B97B-47E4-440E-A3E1-207C448F4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680712-8243-41D9-8871-EF818B57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BA2450-04F6-4868-9B63-E33B93834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53F29F-8B34-4A5B-A686-7C825D56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767D28-F62D-4A0A-BBD8-80FC359B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D4827-5785-4931-B55B-4C0B897D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D4D4F2-9E3E-42A0-8BEB-89ADEA3B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95A48-2CF1-4E80-9CF1-28C921BF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CD4E74-FB41-491C-87EF-3B4CD21579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2B1DFA-35B2-4A09-9AB3-9D9A3D7093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E48B8D-0264-4239-A8CF-5652EA85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BF199F-F651-4CDE-A978-54E25386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0FD5E8-F16E-4998-9245-0156E8EC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C9DCAA-798C-4007-95F7-DAD63A40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00C448-C68C-4576-A8A4-B171CA3FB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C1CD25-28A0-44C9-A506-905BD38ED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699386A-7957-43A7-BBC5-60957C68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1252035-9247-4C46-AD22-D2C825A2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B3F126-295D-4AD4-B860-C9B73BFB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A83868-59A2-4536-B3E0-187AA7DE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03710B-CFDF-4657-87FF-BC010515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CEF40B-A3DA-452D-AC89-58765F30B2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B267927-BF2A-468A-91E3-2464CF8D47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9E7945-9EC0-4B3F-BEA1-6C7EFAD54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C9B563D-7465-4BFB-8BC8-565328AD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F2D6079-83EA-4AF3-9BAA-E72F8CD2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CE00C7B-AD28-4328-AE2C-1578D44E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E3B36A0-FA99-4410-A9BE-F52B8EF9A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E6FE818-3EE1-4918-9651-D220B5608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2F618A3-CF68-49EE-844D-19CA2937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45860FA-269B-4971-9649-B6D4705A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E661524-EF3C-494B-B515-A946B9DB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E3F9142-1449-4FE7-8684-B1D51701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329BB67-F8C2-4A6A-824D-75C2FD28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735F88-3E60-4936-A77C-4909D1F44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9B4BF43-073E-40E1-BCBD-B1E843CFB8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297F72-5913-47E0-AC77-4199829B48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2D029A-D877-449A-8199-B2DA0D1C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711E4-704C-4A65-B671-5862EEDD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E3C076-A77C-4EB3-A3AF-E6E48815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EE370-43D3-4190-89BC-02CDFB9DC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F0822-F376-4100-AE2A-F84698BA8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110FB-1459-43C9-8038-7195EDC5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CA9F8-BFE4-4E4D-91C3-7EFF19B6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19554E-AB61-41B2-99BF-24E19530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FCE21D-9750-45C4-9801-048332E2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7203E-8058-4709-A3AB-7B392564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E0C6FC-BE78-4C02-86E2-9916C0EB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F6A96-DF7B-44ED-B3BA-9084DCA084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01B0F05-6BDA-4BB4-9B42-6F0EC5732F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408EE86-BBE2-41EE-9FFF-3DA39BB7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3F52DA1-BD11-4327-9BBE-DDD932F4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D235304-19EB-4450-8C35-61CECFC3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BAFAB50-6C2A-4347-8A09-3FA29BE21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887FDC8-32DC-4886-BEF4-BC57B1730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1FB9CFB-E8F6-4E77-8631-C2B15FB4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F7F4B-7125-4C30-A188-DFF403F8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3078B9-37FE-475B-917F-11FDC633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C661BAD-761C-4CAC-8E7E-4FE48855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17E7452-5E30-4DD8-9F0D-1039874F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A40A165-19A4-4068-995F-F7CE3690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2AB2A0E-990E-41A8-A641-3B92E890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D8CB632-329F-42AB-8DB5-4109D9B440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44083BD-A144-4931-AB8A-252E8B3808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DD2F0E2-E669-4817-B71C-D8B3A343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9993B74-8AB9-4062-AF76-D74F7FA1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7656C38-4B3E-4FC1-90B9-9FC07E7C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CD322BF-7031-4461-BF4F-2089126C6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76D2DC-96C0-4E66-8822-84849702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FB4BD35-1DDE-4EA1-9B09-90D5EC678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89E5F34-EACF-4113-9ADF-529D2372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A3E2419-FDB2-48E0-BFF0-F0BB1EA1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BBC283F-E510-4174-9534-DA5F2473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644FCAB-F397-427C-81C7-AD73BB6A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8BAC0F5-14E9-445C-B18E-8DCEA393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BE301BC-1388-401D-8B44-66C9BBCE26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EB2F51-704B-4ACB-B6D1-7478320EDC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66B4BC-8878-4ECF-9913-85B2BF73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281A61-B300-49D7-93DD-74D17B50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F06CB6-DFFA-4753-9032-025A6B1C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D5ACF7-B435-4ECB-A4E2-5D3DBD40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CF2538-D74B-40AE-B777-E530908CC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085476-74B2-49E4-8235-D9CA5C047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ACDF82-4DFD-4509-867C-3F1C110A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AE4F7C-50CF-44F0-9294-6DD16462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B3D394-5FCA-488E-98BD-7A6F71BA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728A0A-1BBF-4FE5-AE6A-7823862C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05FEFD-BF05-4918-AE0C-BCFF8653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2183F8-FCCF-4E09-BE7E-8F878209C1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CA309BE-4F5B-4245-A8E3-51A70D8036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325E7-0447-4B44-8D82-1F582522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BFA3A31-586C-4A81-98C7-C875779D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F6D31B2-1AFD-44A5-9E2F-88624AE1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527780D-6C80-4554-BE02-F9C75AD9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5B29ADE-91A4-42D8-93E8-87E3BD686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EEF7382-BD1F-4932-B75F-EDB1CA214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3A1DAC2-77FF-40E3-A84E-AE1C5C3F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0567E5A-E200-4829-A413-EE2EDD80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F8C3897-7DEC-4A1D-8F4B-0724A2FF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30662B9-00A4-4964-9CF8-DC41BD44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D085DD4-006F-4EB9-9D0F-3EBF4F5A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29C61E-4528-4F5F-AEC1-32C947300F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590601A-BA1C-4FC2-A2E4-650B3DFC96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9B5A765-2B64-4418-981A-97E8515087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119A362-FA13-46DC-B0DD-F60A904F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FEFD620-677B-4994-98E3-9AEE23AC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0EC88FC-A8BE-4BDA-BFF2-F9ED57FF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6392284-60EB-4D16-B2CF-25FDF32B1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9663DDA-F78E-4F54-B01D-0F7D48E65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A277F6F-8E0A-41F3-8744-CFCEA6C6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1100E12-FE6D-4F99-9EF9-4ACCC246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222103E-9EB2-4A67-87B5-78C1743A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50CDD0-75F8-4276-A9C5-D9A235D64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621A3E9-8298-4796-9816-84D4BCE7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E30DCB6-2EC5-431E-9D83-14647C95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AD67AD1-6D1D-4B18-8747-88CF46105B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C30DA0-45E4-4FA1-91D9-5944DD88E4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B7CE4D-B890-4D23-8B40-2880B5BA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1F6C24-60B3-4B25-940F-D5423EB8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45D1D3-6BE2-4A81-9C01-38AC219F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491F73-23D0-4DFC-8677-4C7D15549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E54319-3267-4495-B3CC-A9C8E4E7F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E12117-362B-4A7A-85FF-9555EDD0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5A2F11-B23A-45C2-94CF-58D94010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F1D593-1F6E-4E85-8687-12621503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EC1ECB-A9B2-4FBB-A46A-23BC2936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F06A4B-8F10-4131-8BC4-3D563A2C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1A59E7-1B3C-4514-8128-97856B6F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EC3F51-204A-4CFB-999B-71526C7FEE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44730EA-4A1E-476A-950A-956BB4A57F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EC13E4D-B601-4B7C-8A05-EDF245B2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4C68C52-461F-45B7-AC25-518ECD3A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350AC07-B7C1-471A-A7BB-67F13714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81907B0-7248-4D22-BD79-0ECDE08B4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5EEA13-F1A3-4E90-8E69-67551F32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A3606E7-F52E-4F8A-925D-68EC1C1EC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CEBD1A5-E336-4DA0-BA01-3F271A9D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23AFE80-B063-445D-BF37-8713313C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FEC47EB-2FF0-40FE-8620-913EF921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311F122-F8E4-4B36-AF82-D3DF9173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C87F08B-287B-480B-AC69-8B0EE875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F330343-7450-42CE-857B-9DFA54ED47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9AC047E-E297-40D3-91C3-74E052E4E3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956D099-5C9A-4BEC-99BB-DEFB9138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18A7226-53FF-4FEF-8A9B-2F6CE8DD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35B408-3043-4F78-A815-9FD62CF3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8990613-FE30-4A97-A04C-3D9A2779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15DD62A-A766-4A18-A026-77F13B3D9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9A3E6AD-1BD6-46EC-90BF-B4DE4C3A9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9380CBB-3C1A-4EB9-A751-9FB5F01B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72B34CE-703F-4FB7-AF5D-BA1BA5D1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F37E728-ACF5-4CFE-B9BC-91D55198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8DEB4B6-2706-442E-B3B1-0AB9F6AF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43637CA-C689-4057-A923-2DF7A123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1FFB00C-8037-4A59-BCD0-1A4FB2DBB2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1A82F3-9FA6-4F96-8D4A-4FF105670D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4FD731-5660-46F8-84CD-2B83649D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0028EF-B927-4B8B-8B41-B725ABE9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BAE63E-B3BD-4FC1-9FE5-A4B535C7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02809E-0219-4256-9090-440A4690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5B96A7-B38D-4530-AC69-7B2213194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F44AD2-99B6-43CF-AB5A-E04603DD7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3C1538-6A6E-4B61-9D9C-525939CF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E37CDF-8542-4BC7-8F26-4719253D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563F25-4718-493E-AAA3-A233B007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2EFAD5-B027-4DA4-BC6E-E0B0B367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2CA1AF-2036-49A1-A187-AD742B89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84639-341B-401A-AC9D-282984F8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61CB0F-FB9A-4D86-9D40-6B131637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D97D9D-800D-4E68-81F3-94CADDB656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47169F-D360-4BD4-9E8F-95030E802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A8E96A-C82A-439F-BFB6-FCC1666C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F9F3A0-9F5B-4BF3-AFC9-4EC441CF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35807E-EB80-4C51-9E52-22836403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56A71E-07A5-4356-96D4-8529C2AD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CC7D0B-8EEF-42FA-B276-DDFE1CA4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D0C98D-8140-4412-A4AF-E213EB53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4F74AC-293A-42F3-A35F-0ED62E80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C6E4B2-16F7-4CD0-AEA9-22A59B71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8101FF-59A7-4139-831E-457F03C9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B03A30-61AF-41E9-B1F4-7A393022A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446429-FF10-4D1E-9747-0F5B0A915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9A30BC-0F2A-4111-B983-9A9F05043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A8C060-68F8-4562-A447-AFC895686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7B66EF-F669-477B-8A8E-5297AC58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CBE0BD-D6E6-4865-AEA8-BE79CA82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E973AC-2350-407B-B598-25F330BF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89397F-69F8-495E-8A11-7A73F05D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1383DD-4882-4ACA-A45E-6FE34034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D0D390-1E1B-458D-A71B-6BDDF56B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546AD8-22B8-467C-BF45-0470AEE7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5076AF-BFFE-4ED9-A5D5-3F618048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A514F7-E960-4660-A69E-06C3883F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207265-9433-4A01-A576-E340C580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DCAC35-1F60-47DF-AC23-A40929280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4E2944-FD6A-4F69-BDCF-A4658E21B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93B64D-9419-4308-970C-88F36983A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3BF5DC-B239-4EA3-9A05-CD9B2CA3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1AE6A0-933F-487C-9DF4-D10AEBB9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967134-152D-487F-A29D-99CCC33B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C40AE7-DBF5-4F9F-B42B-C1E4DE9E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2545BA-AAEA-4421-A98A-D4EDE825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4C56BD-0C49-4FAA-BC2A-0011F8F0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FEEF2B-B7C9-4A93-A93A-46D385A0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7B0331-1A6E-46C0-8655-67D74FDB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35A6D2-BBD3-4722-BA21-1F46E55A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878EA8-D48D-4EA2-A811-5A9B167B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31886B-42F7-4DCC-A9AD-F50FE209B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5DE363-D582-4DBD-B8E9-FE972CC70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06CF9C-7EA7-484F-A1ED-383632B61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905EFD-64AC-4E6E-A48A-CFC7DBB6F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B1F833-EC67-4E98-B5DC-BAFD6286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091AF1-C6D5-47EE-97BF-2972A274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36778F-7800-48A8-979F-AC306D63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7C53A5-B16E-4E29-B154-815C006A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93533D-6220-4F3C-8A44-0D30AC6D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46C778-D958-4254-B0CA-BB32A489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D66410-ED71-4912-B7DE-A5DBC7E9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28CD7E-5DFD-43FF-9270-5A6C301C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4677C0-4AF8-4063-862E-6FA59ECF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7B621C-06E0-4ED8-BB7E-3FBE39200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FA5F36-5470-47CA-AA85-38ED6E311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EDB7F6-118B-45BA-BDA4-75756F9B8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E918D8-F664-4642-9230-279A5C04D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CAB8A2-0402-40D6-9CB1-D43D1394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FCC072-A012-4E6F-BD67-BC6044C8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23FA54-0826-4233-9CF7-37C1B0AB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375440-E5DF-4BD9-8A84-8DEFB482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CA71B8-0861-4318-84B1-E55EB528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3B7211-28CD-4097-9F4C-72D9AF99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8EEBCF-D4DD-4533-9CAF-1DB91361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FCE32C-033D-48E6-B6AE-55299045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A62FAB-67A4-4A97-941A-7773BCB9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C228B9-D9ED-4A6F-9417-068359197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E1E727-13E0-4645-87F3-EBFD5A571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24C55A-9EFC-42FE-A7D5-95F396D91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6B1189-F69D-4C0F-A1EF-2EE4DF945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7DDF23-672E-48E4-AEB6-FBE252D9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4E666C-5421-4A29-9588-04216BE7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81AC6E-796B-4C26-B388-E29A0F33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AD8189-D09A-49F3-AA6E-1202590B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23144E-B234-406A-A86D-02896E8B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7B1B01-E472-43CC-AE59-B8B75031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C25807-F518-4C9D-825E-48E8B0B4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F92249-DE3A-46AA-8A27-F3E71EF2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8B365-3402-473B-90B0-56866CBBB7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A4041D-6135-4D62-B207-82FB8376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4834ED-A85D-49CD-9A39-638C458C2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5AAD66-E5B2-4738-8E33-C2115EDDC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7AD032-BB8E-4D4D-B4E3-E466073E4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4629F7-6FC2-46B0-8285-EBDD1961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4D23728-A4A2-4AEB-A97F-F856D4FE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68CBB2-4641-4426-8CE1-6F056691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B1727E-AED3-4A43-94AE-1D7E9DD3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D5753A-E92A-46D3-8D84-E48ADD18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6A9197D-4993-4D2F-A2A3-D16EF5CE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0353F-BC29-4629-A41A-06B32C03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4B22E3A-A062-4F02-9FD6-CB67CCC9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64D5AD6-B702-4FB6-8725-D013D697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40A911-B07B-4531-B53D-28C6B368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F57DFD6-4153-4466-B02F-890CB2669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E6F49D-6B70-41C1-9DB4-C88F77967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4225843-EC93-4435-8B62-D00A91D61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4894BEE-0BF3-4309-9F8D-52E4BD8F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2C78F62-38BE-4AC7-B5F9-76380DFB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7DBDF81-AA29-4DBF-A360-C558AF01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D9E6CAA-52DF-436D-A400-041CFF73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E36C4-326E-48BE-8D4B-DF2A35B1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36ECF69-9948-4464-A507-1EF52BAF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AEF9C24-B485-4554-AFE4-44913F4F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2E5FD83-8FD3-4B6E-A1C9-EBC56195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2B416C3-0B6B-4623-B217-DB258642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05014AD-5775-4F9D-8A5E-015CAB92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FB0CDF8-CDCD-4511-9AD7-FCB52AE58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E5CAC27-F4DC-4524-90F6-222AD3741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359B9D1-4265-4D0E-B495-CDF89CE49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10F9C8D-8285-471F-A402-16F19C1D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1C4DBC7-3364-45FC-A7A6-B22E92B7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ED858-AD55-4890-9691-FDE91501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4F622-4974-40FD-866F-A4FF40FE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7FAFD3A-0C16-4FA5-9256-2616A382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9EE74AD-2B1B-444F-8509-78F43116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ADF0403-1182-42E3-B606-FE2F32FD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7980A85-0185-4BBD-87F3-127C1929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9DAF974-8188-43A9-A5C1-A8DC38C9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D9DB18B-A06F-4147-88E3-6BA845A6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ADA89DC-A864-45E1-B91C-8BB1536B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E1A116A-CB6F-4FB7-AAF3-4F1525A3F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560590D-C93F-43D9-90CD-FB664FB6A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107D43A-EB4D-42AF-A1F7-C6B0988E1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C766D-4D1F-4B78-9F43-6909414FB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741DB24-0783-452B-A3EC-917E3CFD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D998183-EB80-4EAF-9A3D-A2F316C6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69694E6-2F64-40F3-971C-6D87EDFF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41A7EEC-9F6A-4DC9-8E69-F7367674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FCDF585-5E4D-4BDE-A449-3CEB799A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3B207E1-39EE-4127-B186-BA433AAE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98C8687-85A4-42BB-B8A1-374A079A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1A06B3B-84D9-4D81-AF10-ED6C2174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98DA3E0-6D58-4DEA-ACAF-B86ADB53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1EAFCEB-DAB3-485C-89E2-F9F5978E1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AF099-FDAC-479F-BF01-D0F9BD5AF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629CF5C-E991-4D85-8009-6AB36B176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B45FCFC-079E-4285-AAEB-FFFA74FD3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0079B47-BCF4-4D5B-A2B2-CA986F68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0AA8F17-8F21-49E4-B733-BFDE69E3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7DA83AE-D665-4D9B-A135-ED254ACA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A3FF15B-58A4-4BF2-8B80-9C4FE91D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34F8C11-BCC1-4340-B80B-D1E7E218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0A009BA-338F-4CCE-AB55-CC9AE78E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4D3D90C-C50E-4413-A949-5F2DBFE8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C851555-F82C-499D-9F9C-C7BB2CAC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36CF2-1A2F-4587-9E6D-46767B7F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2FE62EB-C396-4436-8A42-658AA794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CFB09DE-56EA-4391-B99E-3CBB37CB5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6667E35-5916-4192-A080-980F74700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02666-F57F-47CB-B631-DF6CFC10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D5022-AFD7-4B08-8F49-5C845568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21713-4C4F-42C3-80D0-EF73A621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0D684-9CB1-49AF-9219-1B60F5E7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ECDB1-CEAC-4E81-A796-C44A82E50E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B52863-2439-452C-B331-131A86523F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CC905-4BA0-4000-BAEE-F6A96750B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81E313-338F-4EFD-8E7B-FC82C8FC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B64299-42F4-4D18-8370-A972D370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70526D-95FC-41A2-9ABA-CF63D581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1913DC-4954-4BA2-AB76-FE7B99219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9B6ACE-1BD2-405D-8E07-2579AA274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E756F6-2B25-4FCC-BFE9-F7E8A94A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8E951F-DD3D-4D27-B4CE-BC544DEB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002777-2680-4D74-A2E6-E97D93FE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CD1843-3788-433F-9D8B-B2B28130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947C5F-8BAB-4BF3-9F0F-8341987D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F3E1E-DED4-4D10-9BE7-18FD99773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8B8E05-7CF7-4ED4-B088-2C58E4F7D8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E03BB8-D95B-49E9-AD08-1AA74951BD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69FD78-F87B-4E71-8066-07C038D1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F104DB-8DBC-45EB-943F-40816D0B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5943A3-132E-4457-9E98-A9ADEC40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CA61F8-604B-4936-A6DD-E31C1854F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D1BE59-0BD5-4531-8D71-2DCD23A5E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437FC8-892D-4ED9-AF9D-1EAB309A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42FD90-E145-44EC-834D-86BCBD0E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9A3CC4-240D-4A1D-A6B5-6E17D832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C6B6F-B4D7-453D-AC73-5A778C0A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F6979D-D11E-44F0-99EE-676DFE3B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EEE05E-455B-4753-BC52-1EB24DCE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C0894B-1207-412E-975A-6B19CED7A5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B660F-D248-4138-84F6-C6D31F02E4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50464-3BE8-4012-AB5E-4A96AD30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1BD66-69E3-40BF-9A6C-368812C8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1DC28-2390-4509-83D4-BB28323C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F3AB2-D494-4C14-90E4-68D5A0E1F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ED1A0-83EA-4F13-B597-52FAC2C09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9E8CE-A2D3-4442-BD2C-54C48C3E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7CD8E-68AF-4D15-863D-A9E514E7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74031-AB76-411D-AD00-3857549E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1D946-E087-4DD8-9B2D-92F18359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D5EFC-AEF6-4C56-9FD6-29B47AFE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63C72-5146-4021-9580-44B22418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23032-546D-4577-8953-313A4AB08F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C6F04D-1A1B-45D1-A46A-34DDBF56D9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C3D472-B7CB-4CB5-B18D-269CA3EB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037497-7148-4BF7-A5E4-8AE27FB9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883FE7-C68C-4392-8AB0-BCD635DB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D7109E-E6E2-426B-9E92-4123C303C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46B55-7127-4245-B4E4-708A0B6F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69C58C-0BA5-41B9-A9BF-757C517B0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148C32-4827-457E-B58C-45888829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D7281A-B19F-4AB7-B244-BFE9D021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04D83C-E68E-4462-9234-6BAA8FB6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A2C96A-8C57-4B0E-8DF1-E0FF56F7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AAF255-3CD9-447B-9FAF-EE915F1C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118590-946F-4B02-B342-F4A4E633CE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42F33A-F7D6-45A1-8086-0DB7533DD8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3084F4-A9A3-4D0D-93A5-460AE05C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A01BB1-A70C-4A1A-B5BF-37087FC1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3793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3794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3795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3796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3797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3798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3799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780F-DFF3-4771-8EF5-599DC4CEBFB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5CA2-112A-47AA-BD70-88307B5A731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7DB4-4C9C-419D-B44D-D50A636AE13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6AED-3CA4-4F41-B604-1B1416EDE5E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FE52-A3AD-40E3-A868-34E3DFF49E2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04CD-E6D4-456E-A435-B36A166B7E8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309A-C54D-4883-B798-FB79F366F74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3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8C7C-D82D-4633-A30A-9DF3A621408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728F-96B2-47F0-A7F8-38C15B31D4C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3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9B0E-B058-4FED-8517-706364CF7B3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3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76EE-1BD5-4F6F-9390-ECA65278751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0C8E-2526-44D5-8541-30553B47B15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50CB-CA5C-4E95-B229-90A36C3979D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sldNum" idx="4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C0DA-0BD8-4B71-AD79-DEA9210AD1A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4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4802-FDB7-437E-9898-B92CEB9EF06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15FC-86A1-4C05-8D0A-C63C64577B2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 type="dt" idx="4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 type="sldNum" idx="4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6C33-F4E1-4A1C-94E4-FB686FFE50E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dt" idx="5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3F5C-C43A-4325-B6D2-ECBA61E13C6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41C5-2391-4549-9E9E-6107752761D7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635D-4224-4951-8BEA-56C217452071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C838-2190-4610-A8CC-A7078BA3B65B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 type="ftr" idx="6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F37B-3399-401D-A3F3-12D11DE4E37A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95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96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7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8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9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0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F47C-4EF5-42DE-A7DB-F4A2C3C5BDCC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 type="ftr" idx="6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0116-E9A3-49B7-A5CB-CC0AFA95C3A7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 type="ftr" idx="6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C8F4-07EA-4966-8211-0F875667885F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 type="ftr" idx="7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8CB8-7486-46A9-B2F0-9762AD6A46A9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 type="ftr" idx="7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F129-959D-4A6B-9253-644350B3131D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 type="ftr" idx="7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FAB7-6081-4874-B21D-18F2F447550D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 type="ftr" idx="8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F2A3-110F-409D-B538-583CF77D122E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 type="ftr" idx="8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4D9E-5E61-486A-ADC3-FACC144E2703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34817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143" name="椭圆 34818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4" name="椭圆 34819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5" name="椭圆 34820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6" name="椭圆 34821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7" name="椭圆 34822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8" name="椭圆 34823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5A1A-8270-479B-A652-B37A0D9B331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612E-AD48-40E1-AF74-08CB95920D0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2AF3-7341-4C99-9496-F651BD1051F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556B-28F6-4126-9102-8E9215948EA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CB7B-83EA-4BCE-9EF5-4CE779622BC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AC19-9810-49C1-88D2-37A9A3DD043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4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4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audio" Target="../media/start.wav"/><Relationship Id="rId14" Type="http://schemas.openxmlformats.org/officeDocument/2006/relationships/slideLayout" Target="../slideLayouts/slideLayout2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4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4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矩形 29697"/>
          <p:cNvSpPr/>
          <p:nvPr/>
        </p:nvSpPr>
        <p:spPr>
          <a:xfrm>
            <a:off x="269640" y="5176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1" name="矩形 29698"/>
          <p:cNvSpPr/>
          <p:nvPr/>
        </p:nvSpPr>
        <p:spPr>
          <a:xfrm>
            <a:off x="485640" y="5392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2" name="Rectangle 7"/>
          <p:cNvSpPr/>
          <p:nvPr/>
        </p:nvSpPr>
        <p:spPr>
          <a:xfrm>
            <a:off x="1979640" y="476280"/>
            <a:ext cx="5283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百分数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3" name="TextBox 3"/>
          <p:cNvSpPr/>
          <p:nvPr/>
        </p:nvSpPr>
        <p:spPr>
          <a:xfrm>
            <a:off x="1547640" y="184464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解决问题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5" name="图片 27649" descr="84"/>
          <p:cNvPicPr/>
          <p:nvPr/>
        </p:nvPicPr>
        <p:blipFill>
          <a:blip r:embed="rId1"/>
          <a:stretch/>
        </p:blipFill>
        <p:spPr>
          <a:xfrm>
            <a:off x="601560" y="1384200"/>
            <a:ext cx="6229440" cy="2159280"/>
          </a:xfrm>
          <a:prstGeom prst="rect">
            <a:avLst/>
          </a:prstGeom>
          <a:ln w="0">
            <a:noFill/>
          </a:ln>
        </p:spPr>
      </p:pic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三、知识应用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TextBox 3"/>
          <p:cNvSpPr/>
          <p:nvPr/>
        </p:nvSpPr>
        <p:spPr>
          <a:xfrm>
            <a:off x="324000" y="1494000"/>
            <a:ext cx="1152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8" name="TextBox 4"/>
          <p:cNvSpPr/>
          <p:nvPr/>
        </p:nvSpPr>
        <p:spPr>
          <a:xfrm>
            <a:off x="4888080" y="2195640"/>
            <a:ext cx="45720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9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初鸡蛋价格比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7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初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涨了还是跌了？涨跌幅度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是多少？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9" name="TextBox 10"/>
          <p:cNvSpPr/>
          <p:nvPr/>
        </p:nvSpPr>
        <p:spPr>
          <a:xfrm>
            <a:off x="3780000" y="3664080"/>
            <a:ext cx="590544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×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＋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×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－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5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0.935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－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0.935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÷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0.065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6.5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答：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9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月初鸡蛋价格比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7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月初跌了，跌了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6.5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70" name="组合 27654"/>
          <p:cNvGrpSpPr/>
          <p:nvPr/>
        </p:nvGrpSpPr>
        <p:grpSpPr>
          <a:xfrm>
            <a:off x="250920" y="3933720"/>
            <a:ext cx="3546360" cy="1825560"/>
            <a:chOff x="250920" y="3933720"/>
            <a:chExt cx="3546360" cy="1825560"/>
          </a:xfrm>
        </p:grpSpPr>
        <p:sp>
          <p:nvSpPr>
            <p:cNvPr id="1571" name="AutoShape 27"/>
            <p:cNvSpPr/>
            <p:nvPr/>
          </p:nvSpPr>
          <p:spPr>
            <a:xfrm>
              <a:off x="1547640" y="4076640"/>
              <a:ext cx="2249640" cy="1682640"/>
            </a:xfrm>
            <a:prstGeom prst="wedgeRoundRectCallout">
              <a:avLst>
                <a:gd name="adj1" fmla="val -60513"/>
                <a:gd name="adj2" fmla="val -1584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先和同桌说一说你的想法，再用你自己最喜欢的方法做一做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1572" name="图片 27656" descr="67"/>
            <p:cNvPicPr/>
            <p:nvPr/>
          </p:nvPicPr>
          <p:blipFill>
            <a:blip r:embed="rId2"/>
            <a:stretch/>
          </p:blipFill>
          <p:spPr>
            <a:xfrm>
              <a:off x="250920" y="3933720"/>
              <a:ext cx="1122120" cy="1800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三、知识应用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TextBox 3"/>
          <p:cNvSpPr/>
          <p:nvPr/>
        </p:nvSpPr>
        <p:spPr>
          <a:xfrm>
            <a:off x="324000" y="1501920"/>
            <a:ext cx="94327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.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某服装店的老板，将两件不同的衣服均以每件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80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元的价格出售，结果一件赚了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0%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，另一件赔了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0%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，小刚说这个老板正好不赔也不赚。你同意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小刚的说法吗？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5" name="TextBox 15"/>
          <p:cNvSpPr/>
          <p:nvPr/>
        </p:nvSpPr>
        <p:spPr>
          <a:xfrm>
            <a:off x="3635280" y="3573360"/>
            <a:ext cx="511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   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80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÷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＋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50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元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80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÷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－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25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元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80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×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360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元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50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＋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25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375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元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375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元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＞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360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元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答：老板赔了，小刚说得不对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76" name="组合 28676"/>
          <p:cNvGrpSpPr/>
          <p:nvPr/>
        </p:nvGrpSpPr>
        <p:grpSpPr>
          <a:xfrm>
            <a:off x="203040" y="4149720"/>
            <a:ext cx="3367080" cy="1800360"/>
            <a:chOff x="203040" y="4149720"/>
            <a:chExt cx="3367080" cy="1800360"/>
          </a:xfrm>
        </p:grpSpPr>
        <p:sp>
          <p:nvSpPr>
            <p:cNvPr id="1577" name="AutoShape 27"/>
            <p:cNvSpPr/>
            <p:nvPr/>
          </p:nvSpPr>
          <p:spPr>
            <a:xfrm>
              <a:off x="1355400" y="4292640"/>
              <a:ext cx="2214720" cy="530280"/>
            </a:xfrm>
            <a:prstGeom prst="wedgeRoundRectCallout">
              <a:avLst>
                <a:gd name="adj1" fmla="val -59388"/>
                <a:gd name="adj2" fmla="val 5838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我是这样想的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1578" name="图片 28678" descr="67"/>
            <p:cNvPicPr/>
            <p:nvPr/>
          </p:nvPicPr>
          <p:blipFill>
            <a:blip r:embed="rId1"/>
            <a:stretch/>
          </p:blipFill>
          <p:spPr>
            <a:xfrm>
              <a:off x="203040" y="4149720"/>
              <a:ext cx="1122120" cy="1800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四、全课总结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80" name="TextBox 4"/>
          <p:cNvSpPr/>
          <p:nvPr/>
        </p:nvSpPr>
        <p:spPr>
          <a:xfrm>
            <a:off x="1103400" y="2266920"/>
            <a:ext cx="7572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今天都有哪些收获？还有什么问题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1" name="Picture 2" descr="星08"/>
          <p:cNvPicPr/>
          <p:nvPr/>
        </p:nvPicPr>
        <p:blipFill>
          <a:blip r:embed="rId1"/>
          <a:stretch/>
        </p:blipFill>
        <p:spPr>
          <a:xfrm>
            <a:off x="7315200" y="68580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582" name="Picture 3" descr="星08"/>
          <p:cNvPicPr/>
          <p:nvPr/>
        </p:nvPicPr>
        <p:blipFill>
          <a:blip r:embed="rId2"/>
          <a:stretch/>
        </p:blipFill>
        <p:spPr>
          <a:xfrm>
            <a:off x="304920" y="4876920"/>
            <a:ext cx="884160" cy="884160"/>
          </a:xfrm>
          <a:prstGeom prst="rect">
            <a:avLst/>
          </a:prstGeom>
          <a:ln w="0">
            <a:noFill/>
          </a:ln>
        </p:spPr>
      </p:pic>
      <p:sp>
        <p:nvSpPr>
          <p:cNvPr id="1583" name="WordArt 4"/>
          <p:cNvSpPr txBox="1"/>
          <p:nvPr/>
        </p:nvSpPr>
        <p:spPr>
          <a:xfrm>
            <a:off x="1523880" y="4572000"/>
            <a:ext cx="6096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uFillTx/>
                <a:latin typeface="宋体"/>
              </a:rPr>
              <a:t>Good Bye!</a:t>
            </a:r>
            <a:endParaRPr b="0" i="1" lang="en-US" sz="3200" spc="-1" strike="noStrike" u="sng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uFillTx/>
              <a:latin typeface="宋体"/>
              <a:ea typeface="宋体"/>
            </a:endParaRPr>
          </a:p>
        </p:txBody>
      </p:sp>
      <p:pic>
        <p:nvPicPr>
          <p:cNvPr id="1584" name="Picture 5" descr="星08"/>
          <p:cNvPicPr/>
          <p:nvPr/>
        </p:nvPicPr>
        <p:blipFill>
          <a:blip r:embed="rId5"/>
          <a:stretch/>
        </p:blipFill>
        <p:spPr>
          <a:xfrm>
            <a:off x="539640" y="5535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585" name="Picture 6" descr="星08"/>
          <p:cNvPicPr/>
          <p:nvPr/>
        </p:nvPicPr>
        <p:blipFill>
          <a:blip r:embed="rId6"/>
          <a:stretch/>
        </p:blipFill>
        <p:spPr>
          <a:xfrm>
            <a:off x="7451640" y="1197000"/>
            <a:ext cx="1258920" cy="790560"/>
          </a:xfrm>
          <a:prstGeom prst="rect">
            <a:avLst/>
          </a:prstGeom>
          <a:ln w="0">
            <a:noFill/>
          </a:ln>
        </p:spPr>
      </p:pic>
      <p:sp>
        <p:nvSpPr>
          <p:cNvPr id="1586" name="WordArt 7"/>
          <p:cNvSpPr txBox="1"/>
          <p:nvPr/>
        </p:nvSpPr>
        <p:spPr>
          <a:xfrm>
            <a:off x="1476360" y="2924280"/>
            <a:ext cx="5832360" cy="71280"/>
          </a:xfrm>
          <a:prstGeom prst="rect">
            <a:avLst/>
          </a:prstGeom>
        </p:spPr>
        <p:txBody>
          <a:bodyPr wrap="none" fromWordArt="1" lIns="90000" rIns="90000" tIns="24840" bIns="24840" anchor="t" anchorCtr="1">
            <a:prstTxWarp prst="textArchUp">
              <a:avLst>
                <a:gd name="adj" fmla="val 108003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 u="sng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uFillTx/>
                <a:latin typeface="宋体"/>
              </a:rPr>
              <a:t>再见</a:t>
            </a:r>
            <a:endParaRPr b="1" i="1" lang="en-US" sz="6600" spc="-1" strike="noStrike" u="sng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uFillTx/>
              <a:latin typeface="宋体"/>
              <a:ea typeface="宋体"/>
            </a:endParaRPr>
          </a:p>
        </p:txBody>
      </p:sp>
      <p:pic>
        <p:nvPicPr>
          <p:cNvPr id="1587" name="Picture 8" descr="星08"/>
          <p:cNvPicPr/>
          <p:nvPr/>
        </p:nvPicPr>
        <p:blipFill>
          <a:blip r:embed="rId9"/>
          <a:stretch/>
        </p:blipFill>
        <p:spPr>
          <a:xfrm>
            <a:off x="539640" y="476280"/>
            <a:ext cx="884520" cy="884160"/>
          </a:xfrm>
          <a:prstGeom prst="rect">
            <a:avLst/>
          </a:prstGeom>
          <a:ln w="0">
            <a:noFill/>
          </a:ln>
        </p:spPr>
      </p:pic>
      <p:pic>
        <p:nvPicPr>
          <p:cNvPr id="1588" name="Picture 9" descr="星08"/>
          <p:cNvPicPr/>
          <p:nvPr/>
        </p:nvPicPr>
        <p:blipFill>
          <a:blip r:embed="rId10"/>
          <a:stretch/>
        </p:blipFill>
        <p:spPr>
          <a:xfrm>
            <a:off x="676440" y="987480"/>
            <a:ext cx="1258560" cy="790560"/>
          </a:xfrm>
          <a:prstGeom prst="rect">
            <a:avLst/>
          </a:prstGeom>
          <a:ln w="0">
            <a:noFill/>
          </a:ln>
        </p:spPr>
      </p:pic>
      <p:pic>
        <p:nvPicPr>
          <p:cNvPr id="1589" name="Picture 10" descr="星08"/>
          <p:cNvPicPr/>
          <p:nvPr/>
        </p:nvPicPr>
        <p:blipFill>
          <a:blip r:embed="rId11"/>
          <a:stretch/>
        </p:blipFill>
        <p:spPr>
          <a:xfrm>
            <a:off x="7451640" y="522936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590" name="Picture 11" descr="星08"/>
          <p:cNvPicPr/>
          <p:nvPr/>
        </p:nvPicPr>
        <p:blipFill>
          <a:blip r:embed="rId12"/>
          <a:stretch/>
        </p:blipFill>
        <p:spPr>
          <a:xfrm>
            <a:off x="7588080" y="5740560"/>
            <a:ext cx="1258920" cy="7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一、复习旧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TextBox 3"/>
          <p:cNvSpPr/>
          <p:nvPr/>
        </p:nvSpPr>
        <p:spPr>
          <a:xfrm>
            <a:off x="468360" y="1521000"/>
            <a:ext cx="849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说一说下面各题中表示单位“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”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的量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6" name="TextBox 4"/>
          <p:cNvSpPr/>
          <p:nvPr/>
        </p:nvSpPr>
        <p:spPr>
          <a:xfrm>
            <a:off x="324000" y="220500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连环画的本数是故事书本数的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7.5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7" name="直接连接符 11"/>
          <p:cNvSpPr/>
          <p:nvPr/>
        </p:nvSpPr>
        <p:spPr>
          <a:xfrm>
            <a:off x="2916360" y="2670120"/>
            <a:ext cx="115092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488" name="组合 20"/>
          <p:cNvGrpSpPr/>
          <p:nvPr/>
        </p:nvGrpSpPr>
        <p:grpSpPr>
          <a:xfrm>
            <a:off x="324000" y="3068640"/>
            <a:ext cx="8532720" cy="675720"/>
            <a:chOff x="324000" y="3068640"/>
            <a:chExt cx="8532720" cy="675720"/>
          </a:xfrm>
        </p:grpSpPr>
        <p:sp>
          <p:nvSpPr>
            <p:cNvPr id="1489" name="TextBox 12"/>
            <p:cNvSpPr/>
            <p:nvPr/>
          </p:nvSpPr>
          <p:spPr>
            <a:xfrm>
              <a:off x="324000" y="3068640"/>
              <a:ext cx="853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）美术小组的人数相当于科技小组人数的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60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%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90" name="TextBox 17"/>
            <p:cNvSpPr/>
            <p:nvPr/>
          </p:nvSpPr>
          <p:spPr>
            <a:xfrm>
              <a:off x="7453440" y="3284640"/>
              <a:ext cx="86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491" name="直接连接符 19"/>
          <p:cNvSpPr/>
          <p:nvPr/>
        </p:nvSpPr>
        <p:spPr>
          <a:xfrm>
            <a:off x="3708360" y="3500280"/>
            <a:ext cx="144000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2" name="TextBox 21"/>
          <p:cNvSpPr/>
          <p:nvPr/>
        </p:nvSpPr>
        <p:spPr>
          <a:xfrm>
            <a:off x="324000" y="393228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冰箱价格的     是洗衣机的价格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3" name="直接连接符 29"/>
          <p:cNvSpPr/>
          <p:nvPr/>
        </p:nvSpPr>
        <p:spPr>
          <a:xfrm>
            <a:off x="1116000" y="438480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4" name="TextBox 30"/>
          <p:cNvSpPr/>
          <p:nvPr/>
        </p:nvSpPr>
        <p:spPr>
          <a:xfrm>
            <a:off x="324000" y="4776840"/>
            <a:ext cx="882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苹果树的棵数是梨树棵数的     ，桃树棵数是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苹果树棵数的    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5" name="直接连接符 39"/>
          <p:cNvSpPr/>
          <p:nvPr/>
        </p:nvSpPr>
        <p:spPr>
          <a:xfrm>
            <a:off x="2881440" y="527220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6" name="直接连接符 41"/>
          <p:cNvSpPr/>
          <p:nvPr/>
        </p:nvSpPr>
        <p:spPr>
          <a:xfrm>
            <a:off x="1116000" y="5748480"/>
            <a:ext cx="122400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497" name="组合 19470"/>
          <p:cNvGrpSpPr/>
          <p:nvPr/>
        </p:nvGrpSpPr>
        <p:grpSpPr>
          <a:xfrm>
            <a:off x="2386080" y="3745080"/>
            <a:ext cx="511200" cy="815040"/>
            <a:chOff x="2386080" y="3745080"/>
            <a:chExt cx="511200" cy="815040"/>
          </a:xfrm>
        </p:grpSpPr>
        <p:sp>
          <p:nvSpPr>
            <p:cNvPr id="1498" name="文本框 19471"/>
            <p:cNvSpPr/>
            <p:nvPr/>
          </p:nvSpPr>
          <p:spPr>
            <a:xfrm>
              <a:off x="2392200" y="410040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99" name="文本框 19472"/>
            <p:cNvSpPr/>
            <p:nvPr/>
          </p:nvSpPr>
          <p:spPr>
            <a:xfrm>
              <a:off x="2386080" y="37450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00" name="直接连接符 19473"/>
            <p:cNvSpPr/>
            <p:nvPr/>
          </p:nvSpPr>
          <p:spPr>
            <a:xfrm>
              <a:off x="2430360" y="4164120"/>
              <a:ext cx="252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01" name="组合 19474"/>
          <p:cNvGrpSpPr/>
          <p:nvPr/>
        </p:nvGrpSpPr>
        <p:grpSpPr>
          <a:xfrm>
            <a:off x="4160880" y="4732200"/>
            <a:ext cx="511200" cy="815400"/>
            <a:chOff x="4160880" y="4732200"/>
            <a:chExt cx="511200" cy="815400"/>
          </a:xfrm>
        </p:grpSpPr>
        <p:sp>
          <p:nvSpPr>
            <p:cNvPr id="1502" name="文本框 19475"/>
            <p:cNvSpPr/>
            <p:nvPr/>
          </p:nvSpPr>
          <p:spPr>
            <a:xfrm>
              <a:off x="4167000" y="508788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03" name="文本框 19476"/>
            <p:cNvSpPr/>
            <p:nvPr/>
          </p:nvSpPr>
          <p:spPr>
            <a:xfrm>
              <a:off x="4160880" y="47322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04" name="直接连接符 19477"/>
            <p:cNvSpPr/>
            <p:nvPr/>
          </p:nvSpPr>
          <p:spPr>
            <a:xfrm>
              <a:off x="4205160" y="5151600"/>
              <a:ext cx="252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05" name="组合 19478"/>
          <p:cNvGrpSpPr/>
          <p:nvPr/>
        </p:nvGrpSpPr>
        <p:grpSpPr>
          <a:xfrm>
            <a:off x="2584440" y="5146560"/>
            <a:ext cx="511200" cy="815400"/>
            <a:chOff x="2584440" y="5146560"/>
            <a:chExt cx="511200" cy="815400"/>
          </a:xfrm>
        </p:grpSpPr>
        <p:sp>
          <p:nvSpPr>
            <p:cNvPr id="1506" name="文本框 19479"/>
            <p:cNvSpPr/>
            <p:nvPr/>
          </p:nvSpPr>
          <p:spPr>
            <a:xfrm>
              <a:off x="2590560" y="550224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07" name="文本框 19480"/>
            <p:cNvSpPr/>
            <p:nvPr/>
          </p:nvSpPr>
          <p:spPr>
            <a:xfrm>
              <a:off x="2584440" y="51465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08" name="直接连接符 19481"/>
            <p:cNvSpPr/>
            <p:nvPr/>
          </p:nvSpPr>
          <p:spPr>
            <a:xfrm>
              <a:off x="2628720" y="5565960"/>
              <a:ext cx="252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509" name="矩形 19483"/>
          <p:cNvSpPr/>
          <p:nvPr/>
        </p:nvSpPr>
        <p:spPr>
          <a:xfrm>
            <a:off x="2063520" y="34830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0" name="矩形 19484"/>
          <p:cNvSpPr/>
          <p:nvPr/>
        </p:nvSpPr>
        <p:spPr>
          <a:xfrm>
            <a:off x="2279520" y="36990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1" name="矩形 19485"/>
          <p:cNvSpPr/>
          <p:nvPr/>
        </p:nvSpPr>
        <p:spPr>
          <a:xfrm>
            <a:off x="2495160" y="391464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二、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TextBox 10"/>
          <p:cNvSpPr/>
          <p:nvPr/>
        </p:nvSpPr>
        <p:spPr>
          <a:xfrm>
            <a:off x="574560" y="1411200"/>
            <a:ext cx="8245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某种商品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的价格比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降了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0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，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5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的价格比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又涨了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0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。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5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的价格和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比是涨了还是降了？变化幅度是多少？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14" name="组合 20483"/>
          <p:cNvGrpSpPr/>
          <p:nvPr/>
        </p:nvGrpSpPr>
        <p:grpSpPr>
          <a:xfrm>
            <a:off x="324000" y="2997360"/>
            <a:ext cx="4124160" cy="1800000"/>
            <a:chOff x="324000" y="2997360"/>
            <a:chExt cx="4124160" cy="1800000"/>
          </a:xfrm>
        </p:grpSpPr>
        <p:sp>
          <p:nvSpPr>
            <p:cNvPr id="1515" name="AutoShape 27"/>
            <p:cNvSpPr/>
            <p:nvPr/>
          </p:nvSpPr>
          <p:spPr>
            <a:xfrm>
              <a:off x="1566720" y="3259080"/>
              <a:ext cx="2881440" cy="888480"/>
            </a:xfrm>
            <a:prstGeom prst="wedgeRoundRectCallout">
              <a:avLst>
                <a:gd name="adj1" fmla="val -57217"/>
                <a:gd name="adj2" fmla="val -571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读一读题，你都知道了什么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1516" name="图片 20485" descr="67"/>
            <p:cNvPicPr/>
            <p:nvPr/>
          </p:nvPicPr>
          <p:blipFill>
            <a:blip r:embed="rId1"/>
            <a:stretch/>
          </p:blipFill>
          <p:spPr>
            <a:xfrm>
              <a:off x="324000" y="2997360"/>
              <a:ext cx="1122120" cy="180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17" name="组合 20486"/>
          <p:cNvGrpSpPr/>
          <p:nvPr/>
        </p:nvGrpSpPr>
        <p:grpSpPr>
          <a:xfrm>
            <a:off x="4067280" y="4149720"/>
            <a:ext cx="4886280" cy="2087640"/>
            <a:chOff x="4067280" y="4149720"/>
            <a:chExt cx="4886280" cy="2087640"/>
          </a:xfrm>
        </p:grpSpPr>
        <p:sp>
          <p:nvSpPr>
            <p:cNvPr id="1518" name="AutoShape 27"/>
            <p:cNvSpPr/>
            <p:nvPr/>
          </p:nvSpPr>
          <p:spPr>
            <a:xfrm>
              <a:off x="4067280" y="4149720"/>
              <a:ext cx="3386160" cy="2087640"/>
            </a:xfrm>
            <a:prstGeom prst="wedgeRoundRectCallout">
              <a:avLst>
                <a:gd name="adj1" fmla="val 59472"/>
                <a:gd name="adj2" fmla="val -2429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现在我们只知道每两个月之间价格的变化幅度，但商品原来的价格却未知，想一想可以怎么办呢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你会解答吗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1519" name="图片 20488" descr="49"/>
            <p:cNvPicPr/>
            <p:nvPr/>
          </p:nvPicPr>
          <p:blipFill>
            <a:blip r:embed="rId2"/>
            <a:stretch/>
          </p:blipFill>
          <p:spPr>
            <a:xfrm>
              <a:off x="7524720" y="4149720"/>
              <a:ext cx="1428840" cy="179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0" name="矩形 20490"/>
          <p:cNvSpPr/>
          <p:nvPr/>
        </p:nvSpPr>
        <p:spPr>
          <a:xfrm>
            <a:off x="2142720" y="530064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二、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TextBox 23"/>
          <p:cNvSpPr/>
          <p:nvPr/>
        </p:nvSpPr>
        <p:spPr>
          <a:xfrm>
            <a:off x="3540240" y="2925720"/>
            <a:ext cx="6119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4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月份价格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       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00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×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－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00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×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8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80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元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5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月份价格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       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80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×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＋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0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80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×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20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96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元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5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月份和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月份价格比较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       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96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元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＜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00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元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4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变化幅度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      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00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－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96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÷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00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4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÷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00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4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答：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5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月的价格和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月比降了，变化幅度是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       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降低了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4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23" name="组合 21507"/>
          <p:cNvGrpSpPr/>
          <p:nvPr/>
        </p:nvGrpSpPr>
        <p:grpSpPr>
          <a:xfrm>
            <a:off x="-54000" y="2997360"/>
            <a:ext cx="3816360" cy="1800000"/>
            <a:chOff x="-54000" y="2997360"/>
            <a:chExt cx="3816360" cy="1800000"/>
          </a:xfrm>
        </p:grpSpPr>
        <p:sp>
          <p:nvSpPr>
            <p:cNvPr id="1524" name="AutoShape 27"/>
            <p:cNvSpPr/>
            <p:nvPr/>
          </p:nvSpPr>
          <p:spPr>
            <a:xfrm>
              <a:off x="1189080" y="3259080"/>
              <a:ext cx="2573280" cy="889200"/>
            </a:xfrm>
            <a:prstGeom prst="wedgeRoundRectCallout">
              <a:avLst>
                <a:gd name="adj1" fmla="val -58083"/>
                <a:gd name="adj2" fmla="val -571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可以假设此商品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月的价格是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00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元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1525" name="图片 21509" descr="67"/>
            <p:cNvPicPr/>
            <p:nvPr/>
          </p:nvPicPr>
          <p:blipFill>
            <a:blip r:embed="rId1"/>
            <a:stretch/>
          </p:blipFill>
          <p:spPr>
            <a:xfrm>
              <a:off x="-54000" y="2997360"/>
              <a:ext cx="1122480" cy="180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6" name="TextBox 10"/>
          <p:cNvSpPr/>
          <p:nvPr/>
        </p:nvSpPr>
        <p:spPr>
          <a:xfrm>
            <a:off x="574560" y="1411200"/>
            <a:ext cx="8245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某种商品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的价格比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降了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0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，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5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的价格比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又涨了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0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。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5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的价格和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比是涨了还是降了？变化幅度是多少？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二、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TextBox 13"/>
          <p:cNvSpPr/>
          <p:nvPr/>
        </p:nvSpPr>
        <p:spPr>
          <a:xfrm>
            <a:off x="684360" y="3933720"/>
            <a:ext cx="845964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×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－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×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＋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0.96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－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0.96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÷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0.04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4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答：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5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月的价格和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月比降了，变化幅度是降低了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4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29" name="组合 22531"/>
          <p:cNvGrpSpPr/>
          <p:nvPr/>
        </p:nvGrpSpPr>
        <p:grpSpPr>
          <a:xfrm>
            <a:off x="0" y="2924280"/>
            <a:ext cx="3203640" cy="1800000"/>
            <a:chOff x="0" y="2924280"/>
            <a:chExt cx="3203640" cy="1800000"/>
          </a:xfrm>
        </p:grpSpPr>
        <p:sp>
          <p:nvSpPr>
            <p:cNvPr id="1530" name="AutoShape 27"/>
            <p:cNvSpPr/>
            <p:nvPr/>
          </p:nvSpPr>
          <p:spPr>
            <a:xfrm>
              <a:off x="1243080" y="3186000"/>
              <a:ext cx="1960560" cy="888480"/>
            </a:xfrm>
            <a:prstGeom prst="wedgeRoundRectCallout">
              <a:avLst>
                <a:gd name="adj1" fmla="val -60606"/>
                <a:gd name="adj2" fmla="val -571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想一想还可以怎样做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1531" name="图片 22533" descr="67"/>
            <p:cNvPicPr/>
            <p:nvPr/>
          </p:nvPicPr>
          <p:blipFill>
            <a:blip r:embed="rId1"/>
            <a:stretch/>
          </p:blipFill>
          <p:spPr>
            <a:xfrm>
              <a:off x="0" y="2924280"/>
              <a:ext cx="1122480" cy="180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2" name="组合 22534"/>
          <p:cNvGrpSpPr/>
          <p:nvPr/>
        </p:nvGrpSpPr>
        <p:grpSpPr>
          <a:xfrm>
            <a:off x="4067280" y="2997360"/>
            <a:ext cx="4608360" cy="1798560"/>
            <a:chOff x="4067280" y="2997360"/>
            <a:chExt cx="4608360" cy="1798560"/>
          </a:xfrm>
        </p:grpSpPr>
        <p:sp>
          <p:nvSpPr>
            <p:cNvPr id="1533" name="AutoShape 27"/>
            <p:cNvSpPr/>
            <p:nvPr/>
          </p:nvSpPr>
          <p:spPr>
            <a:xfrm>
              <a:off x="4067280" y="3286440"/>
              <a:ext cx="3097080" cy="936360"/>
            </a:xfrm>
            <a:prstGeom prst="wedgeRoundRectCallout">
              <a:avLst>
                <a:gd name="adj1" fmla="val 57277"/>
                <a:gd name="adj2" fmla="val -2322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也可以直接假设此商品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月的价格是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1534" name="图片 22536" descr="49"/>
            <p:cNvPicPr/>
            <p:nvPr/>
          </p:nvPicPr>
          <p:blipFill>
            <a:blip r:embed="rId2"/>
            <a:stretch/>
          </p:blipFill>
          <p:spPr>
            <a:xfrm>
              <a:off x="7246800" y="2997360"/>
              <a:ext cx="1428840" cy="179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5" name="TextBox 10"/>
          <p:cNvSpPr/>
          <p:nvPr/>
        </p:nvSpPr>
        <p:spPr>
          <a:xfrm>
            <a:off x="574560" y="1411200"/>
            <a:ext cx="8245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某种商品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的价格比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降了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0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，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5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的价格比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又涨了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0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。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5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的价格和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比是涨了还是降了？变化幅度是多少？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二、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TextBox 20"/>
          <p:cNvSpPr/>
          <p:nvPr/>
        </p:nvSpPr>
        <p:spPr>
          <a:xfrm>
            <a:off x="647640" y="5010120"/>
            <a:ext cx="84614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a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×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－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×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＋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0.96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a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a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－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0.96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a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÷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a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0.04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4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答：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5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月的价格和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月比降了，变化幅度是降低了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4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38" name="组合 23555"/>
          <p:cNvGrpSpPr/>
          <p:nvPr/>
        </p:nvGrpSpPr>
        <p:grpSpPr>
          <a:xfrm>
            <a:off x="34920" y="3357720"/>
            <a:ext cx="4427640" cy="1414440"/>
            <a:chOff x="34920" y="3357720"/>
            <a:chExt cx="4427640" cy="1414440"/>
          </a:xfrm>
        </p:grpSpPr>
        <p:pic>
          <p:nvPicPr>
            <p:cNvPr id="1539" name="Picture 20" descr="男天使副本"/>
            <p:cNvPicPr/>
            <p:nvPr/>
          </p:nvPicPr>
          <p:blipFill>
            <a:blip r:embed="rId1"/>
            <a:stretch/>
          </p:blipFill>
          <p:spPr>
            <a:xfrm>
              <a:off x="34920" y="335772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0" name="AutoShape 27"/>
            <p:cNvSpPr/>
            <p:nvPr/>
          </p:nvSpPr>
          <p:spPr>
            <a:xfrm>
              <a:off x="1366920" y="3357720"/>
              <a:ext cx="3095640" cy="576360"/>
            </a:xfrm>
            <a:prstGeom prst="wedgeRoundRectCallout">
              <a:avLst>
                <a:gd name="adj1" fmla="val -42513"/>
                <a:gd name="adj2" fmla="val 8718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做对了吗？检查一下！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541" name="AutoShape 27"/>
          <p:cNvSpPr/>
          <p:nvPr/>
        </p:nvSpPr>
        <p:spPr>
          <a:xfrm>
            <a:off x="4716360" y="2781360"/>
            <a:ext cx="2860920" cy="2087640"/>
          </a:xfrm>
          <a:prstGeom prst="wedgeRoundRectCallout">
            <a:avLst>
              <a:gd name="adj1" fmla="val 58157"/>
              <a:gd name="adj2" fmla="val -1190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我是这样检查的：如果假设此商品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3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月的价格是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a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元，发现得到的结论和前面得到的结论是一致的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42" name="图片 23559" descr="67"/>
          <p:cNvPicPr/>
          <p:nvPr/>
        </p:nvPicPr>
        <p:blipFill>
          <a:blip r:embed="rId2"/>
          <a:stretch/>
        </p:blipFill>
        <p:spPr>
          <a:xfrm>
            <a:off x="7812000" y="2781360"/>
            <a:ext cx="1122480" cy="1800000"/>
          </a:xfrm>
          <a:prstGeom prst="rect">
            <a:avLst/>
          </a:prstGeom>
          <a:ln w="0">
            <a:noFill/>
          </a:ln>
        </p:spPr>
      </p:pic>
      <p:sp>
        <p:nvSpPr>
          <p:cNvPr id="1543" name="TextBox 10"/>
          <p:cNvSpPr/>
          <p:nvPr/>
        </p:nvSpPr>
        <p:spPr>
          <a:xfrm>
            <a:off x="574560" y="1411200"/>
            <a:ext cx="8245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某种商品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的价格比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降了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0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，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5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的价格比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又涨了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0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。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5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的价格和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比是涨了还是降了？变化幅度是多少？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二、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5" name="组合 24578"/>
          <p:cNvGrpSpPr/>
          <p:nvPr/>
        </p:nvGrpSpPr>
        <p:grpSpPr>
          <a:xfrm>
            <a:off x="395280" y="4653000"/>
            <a:ext cx="3348000" cy="1800000"/>
            <a:chOff x="395280" y="4653000"/>
            <a:chExt cx="3348000" cy="1800000"/>
          </a:xfrm>
        </p:grpSpPr>
        <p:sp>
          <p:nvSpPr>
            <p:cNvPr id="1546" name="AutoShape 27"/>
            <p:cNvSpPr/>
            <p:nvPr/>
          </p:nvSpPr>
          <p:spPr>
            <a:xfrm>
              <a:off x="1638360" y="4914720"/>
              <a:ext cx="2104920" cy="889200"/>
            </a:xfrm>
            <a:prstGeom prst="wedgeRoundRectCallout">
              <a:avLst>
                <a:gd name="adj1" fmla="val -59879"/>
                <a:gd name="adj2" fmla="val -571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楷体_GB2312"/>
                  <a:ea typeface="楷体_GB2312"/>
                </a:rPr>
                <a:t>因为单位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宋体"/>
                  <a:ea typeface="宋体"/>
                </a:rPr>
                <a:t>“</a:t>
              </a: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1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宋体"/>
                  <a:ea typeface="宋体"/>
                </a:rPr>
                <a:t>”</a:t>
              </a:r>
              <a:r>
                <a:rPr b="0" i="1" lang="zh-CN" sz="2000" spc="-1" strike="noStrike" u="sng">
                  <a:solidFill>
                    <a:srgbClr val="ff0000"/>
                  </a:solidFill>
                  <a:uFillTx/>
                  <a:latin typeface="楷体_GB2312"/>
                  <a:ea typeface="楷体_GB2312"/>
                </a:rPr>
                <a:t>不同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1547" name="图片 24580" descr="67"/>
            <p:cNvPicPr/>
            <p:nvPr/>
          </p:nvPicPr>
          <p:blipFill>
            <a:blip r:embed="rId1"/>
            <a:stretch/>
          </p:blipFill>
          <p:spPr>
            <a:xfrm>
              <a:off x="395280" y="4653000"/>
              <a:ext cx="1122480" cy="180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8" name="组合 24581"/>
          <p:cNvGrpSpPr/>
          <p:nvPr/>
        </p:nvGrpSpPr>
        <p:grpSpPr>
          <a:xfrm>
            <a:off x="3924360" y="2924280"/>
            <a:ext cx="4608360" cy="2015640"/>
            <a:chOff x="3924360" y="2924280"/>
            <a:chExt cx="4608360" cy="2015640"/>
          </a:xfrm>
        </p:grpSpPr>
        <p:sp>
          <p:nvSpPr>
            <p:cNvPr id="1549" name="AutoShape 27"/>
            <p:cNvSpPr/>
            <p:nvPr/>
          </p:nvSpPr>
          <p:spPr>
            <a:xfrm>
              <a:off x="3924360" y="3213000"/>
              <a:ext cx="3097080" cy="1726920"/>
            </a:xfrm>
            <a:prstGeom prst="wedgeRoundRectCallout">
              <a:avLst>
                <a:gd name="adj1" fmla="val 57277"/>
                <a:gd name="adj2" fmla="val -3547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同学们想一想，为什么降价和涨价的幅度都是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0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%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，但降价和涨价的具体钱数却不同呢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1550" name="图片 24583" descr="49"/>
            <p:cNvPicPr/>
            <p:nvPr/>
          </p:nvPicPr>
          <p:blipFill>
            <a:blip r:embed="rId2"/>
            <a:stretch/>
          </p:blipFill>
          <p:spPr>
            <a:xfrm>
              <a:off x="7103880" y="2924280"/>
              <a:ext cx="1428840" cy="179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1" name="TextBox 10"/>
          <p:cNvSpPr/>
          <p:nvPr/>
        </p:nvSpPr>
        <p:spPr>
          <a:xfrm>
            <a:off x="574560" y="1411200"/>
            <a:ext cx="8245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某种商品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的价格比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降了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0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，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5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的价格比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又涨了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0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。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5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的价格和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比是涨了还是降了？变化幅度是多少？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2" name="矩形 24585"/>
          <p:cNvSpPr/>
          <p:nvPr/>
        </p:nvSpPr>
        <p:spPr>
          <a:xfrm>
            <a:off x="2063520" y="34830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3" name="矩形 24586"/>
          <p:cNvSpPr/>
          <p:nvPr/>
        </p:nvSpPr>
        <p:spPr>
          <a:xfrm>
            <a:off x="2279520" y="36990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4" name="矩形 24587"/>
          <p:cNvSpPr/>
          <p:nvPr/>
        </p:nvSpPr>
        <p:spPr>
          <a:xfrm>
            <a:off x="2495160" y="391464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5" name="矩形 24588"/>
          <p:cNvSpPr/>
          <p:nvPr/>
        </p:nvSpPr>
        <p:spPr>
          <a:xfrm>
            <a:off x="2711160" y="413064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6" name="矩形 24589"/>
          <p:cNvSpPr/>
          <p:nvPr/>
        </p:nvSpPr>
        <p:spPr>
          <a:xfrm>
            <a:off x="2927160" y="434664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三、知识应用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TextBox 3"/>
          <p:cNvSpPr/>
          <p:nvPr/>
        </p:nvSpPr>
        <p:spPr>
          <a:xfrm>
            <a:off x="324000" y="1496880"/>
            <a:ext cx="9072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某电视机厂计划某种型号的电视机比去年增产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50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，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实际又比计划的产量多生产了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0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。此型号的电视机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今年的实际产量是去年的百分之多少？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9" name="TextBox 4"/>
          <p:cNvSpPr/>
          <p:nvPr/>
        </p:nvSpPr>
        <p:spPr>
          <a:xfrm>
            <a:off x="611280" y="3284640"/>
            <a:ext cx="36734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0" name="TextBox 5"/>
          <p:cNvSpPr/>
          <p:nvPr/>
        </p:nvSpPr>
        <p:spPr>
          <a:xfrm>
            <a:off x="770040" y="3146400"/>
            <a:ext cx="6769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方法一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假设去年产量是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00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台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今年计划产量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       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0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×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＋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5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0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×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50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50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台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今年实际产量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       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5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×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＋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5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×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1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65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台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65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÷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00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65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答：今年的实际产量是去年的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65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三、知识应用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Box 3"/>
          <p:cNvSpPr/>
          <p:nvPr/>
        </p:nvSpPr>
        <p:spPr>
          <a:xfrm>
            <a:off x="324000" y="1496880"/>
            <a:ext cx="9072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某电视机厂计划某种型号的电视机比去年增产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50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，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实际又比计划的产量多生产了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0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。此型号的电视机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今年的实际产量是去年的百分之多少？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3" name="TextBox 4"/>
          <p:cNvSpPr/>
          <p:nvPr/>
        </p:nvSpPr>
        <p:spPr>
          <a:xfrm>
            <a:off x="611280" y="3284640"/>
            <a:ext cx="36734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4" name="TextBox 3"/>
          <p:cNvSpPr/>
          <p:nvPr/>
        </p:nvSpPr>
        <p:spPr>
          <a:xfrm>
            <a:off x="934920" y="3284640"/>
            <a:ext cx="54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方法二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假设去年产量是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×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＋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5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×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＋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65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答：今年的实际产量是去年的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65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dc:language>en-US</dc:language>
  <cp:lastModifiedBy>万润仪器贸易公司</cp:lastModifiedBy>
  <dcterms:modified xsi:type="dcterms:W3CDTF">2020-08-21T09:40:59Z</dcterms:modified>
  <cp:revision>30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